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15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4.jpeg" ContentType="image/jpeg"/>
  <Override PartName="/ppt/media/image7.wmf" ContentType="image/x-wmf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0EA-C36D-4C97-8D47-5EA70552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9E12-9A0A-4FA5-9CF3-59E8FECC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DDAA-1152-491D-AA1A-4DA8ADF7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DE8B-B2D0-45E7-B02C-33233B52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F4C-FCDC-4484-998A-E5CB68E6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C372-C787-43C2-9DD6-895D8C6B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80F-9293-4A06-A507-2B1F78BD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F74-45D2-4617-A78C-E6BA3517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15C6-91B6-4DC5-9D2C-B74C7D3A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30F-9B96-4D17-BBCB-B12D9ED3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459-9668-4903-BFBC-E8C090A5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A6A7-AF42-470D-881B-039D97E1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834E-52FF-4030-847F-1072755DD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5360" y="1044720"/>
            <a:ext cx="952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Great San Francisc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arthquake and Fire of 1906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8160" y="297180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Riv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380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386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1800" y="144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30240" y="144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44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52480" y="14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11280" y="1413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388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240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56680" y="14130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11680" y="1413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391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3623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057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2057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578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057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36640" y="164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76160" y="1641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62320" y="164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47760" y="1641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10240" y="164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1160" y="1676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73280" y="1676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43240" y="1641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905120" y="2206800"/>
            <a:ext cx="579096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3915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337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2520" y="2174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71960" y="217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33720" y="217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42080" y="2174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15160" y="217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50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213372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4560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6576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50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858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7616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67240" y="2022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5724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56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3412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24120" y="202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81280" y="3048120"/>
            <a:ext cx="18241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9480" y="2098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052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814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195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4264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579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1936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458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744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9552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5764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96440" y="2098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246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40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15200" y="1946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1981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2040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11480" y="19810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2200" y="1981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96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148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4000" y="198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2081160" cy="3120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00400" y="27432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632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11120" y="2057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52520" y="202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24840" y="2022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852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862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41680" y="17938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67040" y="179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87520" y="1793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4480" y="182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58840" y="1793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78160" y="1793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664080" y="2803680"/>
            <a:ext cx="18144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5353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036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2360" y="14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7680" y="14130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87240" y="1413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28720" y="14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9132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64176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286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228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2286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824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8532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8360" y="18702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0512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256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35440" y="1870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224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54480" y="1870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9596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724280" y="2895480"/>
            <a:ext cx="3132360" cy="3132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14600" cy="911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209680" y="4343400"/>
            <a:ext cx="18194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01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20600" y="175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712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3884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404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5920" y="175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71840" y="1717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58000" y="1717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70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88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059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7360" y="1717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453160" y="1717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62320" y="2819520"/>
            <a:ext cx="39020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4-22T18:52:32Z</dcterms:modified>
  <cp:revision>13</cp:revision>
  <dc:subject/>
  <dc:title>No Slide Title</dc:title>
</cp:coreProperties>
</file>